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B28C-12D0-48C4-A7F3-B35F69E2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1A34-EFAF-4F87-A71A-C4FF8317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D6AFC-11A2-4E1C-9AD6-59121786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3DF854-DFEA-4661-AC29-60E47158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4C28A-178E-48E7-A615-04C590AA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95E92-B7D1-4EED-BA3E-E84CAD6F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7D682-5C65-4DA9-BB02-5F715097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2B6EB-9CED-4157-8AE8-30EE0E69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FF3E3-D522-44A1-A42F-C5480925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A6053-6767-46BD-BD55-227442BD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88287-C83A-4E02-AC20-D6898157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7058D-F8FA-45CC-8A34-C5709CAA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105F-E2A8-47A7-A219-720A492B6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A795F-DBD2-4877-A17C-9EB9418D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7050B-BE9F-42A0-B61A-693A7547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35E91-82EE-452A-BCD5-64DD18ED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1774CB-111A-48E2-BBF2-AAF18886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047D1-A3EF-4A3A-8F63-E5C88A1B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299B3-FD17-4B04-B577-CAD682CD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1AD72-F5FC-4302-9F05-9556E320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60B096-366E-4396-A953-D4186D92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3EB3A-C435-45AD-9B7B-0C3B44DD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32ED3-6870-4E3A-9269-3089FA94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BE84-2733-4AC1-AEA5-CA59C584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A8B44-8257-41B0-8141-2DF0A12B9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8E80-7AA3-4255-BE71-A40E04F5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0A34-D95C-4C19-90FF-872DD9B8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281C-D19C-47E6-9F2D-3DC90679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A77FA-ECBD-4085-AE8C-C0E0E26F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7E50-6E8D-4389-8042-AD72105E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C2A3-DD69-49C2-8DE5-8D4D812B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478A-1AC5-4371-AD4A-EED6E40B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2039-A310-4C22-B7A1-E236B773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7785-4BCF-49F8-A452-36F80AD9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86F2-2641-4448-9AC8-CBCD80F7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F019-19CA-407B-AD33-8F832CE2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876F-889E-4C19-9DCC-5649F27A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DFAEC-863C-40C1-B6B1-722A4319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EB8E7-11C2-43E8-BC96-B5909E96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ECFCC-E595-4E7E-9A61-53DECE93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D5797-EABB-4B8C-B7BF-D690AAE8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260E4-5A58-45A7-BE36-8151D8D9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6D1E8-5153-43CD-833C-C3BA535E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ACE7-0F73-49A7-8969-3F307176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A8C92-653D-41C1-B832-C62FDB56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8CB53-B73D-40B8-B1BA-1B8C0768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D2E3D-C6C0-4D79-8068-DC5C233D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E64A5-A6D7-4D53-AC74-137E86F5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688F7-2987-4525-BA91-5F24B2A8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7DF1D-5A5C-446B-96C8-6E8E0A51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3B454-7890-4D72-A425-AE20B4AC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15413-EE9C-465D-B156-48D67B38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492FD-169E-4415-938B-F9CC7217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66A70-CD23-45DA-8905-6058B4D6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4AC3-C794-4E5D-B922-7C1EF88B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9789E-556F-43E0-AD07-E15AE20C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C4D6B-0220-4B60-810F-725DAEF6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31ACD-F9D6-4F85-BF18-ADE40637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4A45F-4F19-4FD6-AB6E-96FF1871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4E317-6EB9-4030-BD22-2E938808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F5750-EB46-4E62-BE2C-77995E79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C306E-41C5-44F9-85BC-62BA1039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F868F-192F-43C5-8639-8919ED7F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2AB37-AAB0-4126-9C1A-0A912417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6224B-2A56-4543-85DF-4866C37C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0911-68DA-4B53-94C3-63763C2B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E7AAE-97A2-48D8-B876-923CE633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7F7DF-E72F-4879-9AA7-E534DD5D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62CD6-54D1-4449-9045-F2454C8D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481E7-E36B-4AE3-8C3B-FF8B89F4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125AD-63F3-49D8-8BE0-C0736690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DB6C3-0D52-4509-8C05-579ECFB5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485E2-B51B-4B95-B44A-E2989DB7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FC115-9590-4C8C-9264-B3D58F7D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9511B-DE79-49B8-A227-DCF9A0A1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43B5A-8CAF-41A1-A0EA-8CA1F1BB1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BB7D-C157-4EFD-8E4A-408B77CD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BF97E-C16D-4957-B821-2A5A54F36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D9A31-0316-452E-955E-B87F0896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BA04C-211F-4464-B58F-4ACB5A57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8D320-1FC2-485A-B9C2-770ED08F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3C155-B618-46CB-8C85-5CFBDACF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AE9C0-0A3F-451A-875E-C58F151F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E3B20-D527-4BBD-894C-A88BA0FB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57A8A-BF89-410D-8EEF-F89D936C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A60A3-75C7-4715-8615-5884D392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AA100-D5B0-4FBE-85D0-A661C355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8217-A5B3-4D5F-B22E-2C879386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DE470-9EB0-4DD3-A434-119EBED6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E9EC1-9E93-4B59-8284-EC8DDD42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EFB1B-8472-40B5-A998-06722CBA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DCBA5F-4989-40E9-8869-6E8900CF9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0798D-2E6A-4390-99C1-F8D84967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B229E-BF4A-41FC-9680-14C8B5B7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D44B9-10A4-4A81-B592-E37C32EB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45A63-4894-42B2-B564-7EAF07AA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96A94-F0A7-48A5-94A0-837D1908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32A6D8-8713-4861-BBEF-F934403F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6CA4-C01A-4163-B879-7C3DBF41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B608B-25E8-46C1-8CC8-30A0CE84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2CC0F-468B-4E71-A1B7-EBC2659B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10390-A497-4035-983E-0128B45F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BA9DA-2E14-4D77-AD86-3993581A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7947D-010D-428B-91CA-FD433F65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BBEAA-EF78-4CE0-B26F-0755B300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136C5-A5E0-4471-9F83-9EA193AD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B19A0-1B09-4511-9460-C6DEFE15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4CF5F-BF84-4F1D-A8F5-F627BC98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3D315-CFBA-4092-B025-9EC6C65C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5DEF-DBFC-481E-979E-895CF6B9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69C37-BEF0-4479-8B7A-14CB8E71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EBB14-BC8A-40FB-A0F0-0F0BF176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782EC-5312-40A9-B37F-D696D5F6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E7C06-DEC8-4D45-88A9-48E12D9F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1E415-5D6E-40BA-807D-9DF61F3B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CDD3F-9E8A-40BB-8652-B6412D445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AF09F-0BBD-471B-9228-191B5E50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54285-70A1-45E8-A4AA-7C12C466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C5040-9420-4497-A8F6-B6822091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CC7C2-4957-460C-B8E8-52206554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886D-A1E5-485A-A952-9EDA080BEC4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EF21-0C46-4CE1-B53F-30FC0AEA796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6BF7-5B2D-4F32-AD00-77A63B905E5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4242-0C64-4AAF-A72B-2F4933D0B40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F7DB-374A-495C-8119-3C1ED57ABCD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AF93-85BA-4C05-A6C8-365A17C7FB1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A1C8-9ACF-40E0-A300-11A6428D321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E925-7A43-4480-9A40-377D6E3FE65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7F85-D87A-4A5D-8BE9-D2B19E24774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7ADF-2241-4B53-BF88-A88281E9E79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8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언제 한국에 오셨습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편지를 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음 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을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디음 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본에 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약속이 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언제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ㅂ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봤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난 주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서울에 왔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6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결혼했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작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9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문을 읽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청소를 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에서 무엇을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누구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           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십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를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서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장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항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방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우안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언제 한국에 오셨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야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4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23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일에 왔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우안훼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한국에서 무엇을 하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회사에서 일합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오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mon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ay (date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회사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omp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일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언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en; interogative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언제 왔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언제가 좋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생일이 언제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었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; suffix (ending) to make it p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보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보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았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먹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먹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었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였 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+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오늘 아침에 병원에 갔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제 소설책을 읽었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작년에 해외 여행을 갔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숫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Figu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Sino Korean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1    2    3    4   5    6   7    8    9   10  100  1,000 10,000 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일 이 삼 사 오 육 칠 팔 구 십 백 천 만 억 조 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Original Korean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나 둘 셋 넷 다섯 여섯 일곱 여덟 아홉 열 스물 서른 마흔 쉬흔 예순 일흔 여든 아흔 백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일 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9/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3/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2/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6/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0/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오늘이 몇 월 며칠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일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7/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2/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8/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11/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4/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_(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으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1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셨습니까</a:t>
            </a:r>
            <a:r>
              <a:rPr b="1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였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진을 찍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면을 잡수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전화를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1-26T01:14:27Z</dcterms:modified>
  <cp:revision>101</cp:revision>
  <dc:subject/>
  <dc:title>KOREAN LANGUAGE</dc:title>
</cp:coreProperties>
</file>